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2.png" ContentType="image/png"/>
  <Override PartName="/ppt/media/image19.jpeg" ContentType="image/jpeg"/>
  <Override PartName="/ppt/media/image18.jpeg" ContentType="image/jpeg"/>
  <Override PartName="/ppt/media/image24.png" ContentType="image/png"/>
  <Override PartName="/ppt/media/image21.gif" ContentType="image/gif"/>
  <Override PartName="/ppt/media/image28.jpeg" ContentType="image/jpeg"/>
  <Override PartName="/ppt/media/image20.png" ContentType="image/png"/>
  <Override PartName="/ppt/media/chimes.wav" ContentType="audio/x-wav"/>
  <Override PartName="/ppt/media/image16.jpeg" ContentType="image/jpeg"/>
  <Override PartName="/ppt/media/image15.jpeg" ContentType="image/jpeg"/>
  <Override PartName="/ppt/media/image14.jpeg" ContentType="image/jpeg"/>
  <Override PartName="/ppt/media/image3.png" ContentType="image/png"/>
  <Override PartName="/ppt/media/image26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15204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549360" y="685440"/>
            <a:ext cx="57592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CC99-52D9-44C9-9E7D-BC88692BB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D389-82A3-4BCC-82A0-D60A05089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549360" y="685800"/>
            <a:ext cx="575928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79D7-1C0F-4842-B401-5451BDA14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6360" y="1600200"/>
            <a:ext cx="10368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360" y="3964320"/>
            <a:ext cx="10368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43BF-90EE-4CF3-BA1C-9E9BF0D4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6360" y="1600200"/>
            <a:ext cx="505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89240" y="1600200"/>
            <a:ext cx="505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6360" y="3964320"/>
            <a:ext cx="505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889240" y="3964320"/>
            <a:ext cx="505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4B80-C2FF-4D32-B5C8-A28E6BEF8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6360" y="1600200"/>
            <a:ext cx="333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82040" y="1600200"/>
            <a:ext cx="333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587360" y="1600200"/>
            <a:ext cx="333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6360" y="3964320"/>
            <a:ext cx="333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82040" y="3964320"/>
            <a:ext cx="333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587360" y="3964320"/>
            <a:ext cx="333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743B-D18F-44D0-A05C-0E8BC8281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6360" y="1600200"/>
            <a:ext cx="10368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32A1-7BAC-4516-AC77-17656E93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6360" y="1600200"/>
            <a:ext cx="1036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ADC2-B768-466D-BC80-84C2E660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6360" y="1600200"/>
            <a:ext cx="505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889240" y="1600200"/>
            <a:ext cx="505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96A7-DFA9-4D0E-9676-607438DC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C46E-E2D9-4CA3-B3BD-B8D4CE91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6360" y="274320"/>
            <a:ext cx="1036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4DFF-51DA-4995-8119-26517DF7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6360" y="1600200"/>
            <a:ext cx="505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889240" y="1600200"/>
            <a:ext cx="505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6360" y="3964320"/>
            <a:ext cx="505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BDDD-0225-4720-8BEF-938D5BB5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6360" y="1600200"/>
            <a:ext cx="505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889240" y="1600200"/>
            <a:ext cx="505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889240" y="3964320"/>
            <a:ext cx="505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99A5-8EFE-452A-8087-FDDE4844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6360" y="1600200"/>
            <a:ext cx="505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889240" y="1600200"/>
            <a:ext cx="505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6360" y="3964320"/>
            <a:ext cx="10368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561E-46D7-4EAE-956F-9B76949E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6360" y="1600200"/>
            <a:ext cx="1036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6000" y="6244920"/>
            <a:ext cx="2687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935520" y="6244920"/>
            <a:ext cx="3649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6600" y="6244920"/>
            <a:ext cx="2687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2925-BCE0-4856-B6CA-73BC0756D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hyperlink" Target="http://www.ent-hn.com/teach/cai/hearing/disease/index.htm" TargetMode="External"/><Relationship Id="rId4" Type="http://schemas.openxmlformats.org/officeDocument/2006/relationships/image" Target="../media/image22.png"/><Relationship Id="rId5" Type="http://schemas.openxmlformats.org/officeDocument/2006/relationships/hyperlink" Target="http://www.ent-hn.com/teach/cai/hearing/test/index.htm" TargetMode="External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3610080" y="335772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爱护我们的耳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7"/>
          <p:cNvSpPr/>
          <p:nvPr/>
        </p:nvSpPr>
        <p:spPr>
          <a:xfrm>
            <a:off x="2738520" y="10000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全国爱耳日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u=1101347744,2814188760&amp;fm=23&amp;gp=0"/>
          <p:cNvPicPr/>
          <p:nvPr/>
        </p:nvPicPr>
        <p:blipFill>
          <a:blip r:embed="rId1"/>
          <a:stretch/>
        </p:blipFill>
        <p:spPr>
          <a:xfrm>
            <a:off x="225360" y="3789360"/>
            <a:ext cx="3565440" cy="28576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599040" y="2997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微软雅黑"/>
              </a:rPr>
              <a:t>链接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4394520" y="12682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某些疾病和药物可能引起耳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3038400" y="285264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流行性脑脊髓膜炎，猩红热，流行性腮腺炎等传染病有可能损害耳朵的功能，导致耳聋；一些毒副作用较大的药物如庆大霉素，卡那霉素，链霉素等也可 对耳朵造成损害。所以同学们千万不要乱吃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2717640" y="620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微软雅黑"/>
              </a:rPr>
              <a:t>践行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u=3540754624,3012845930&amp;fm=23&amp;gp=0"/>
          <p:cNvPicPr/>
          <p:nvPr/>
        </p:nvPicPr>
        <p:blipFill>
          <a:blip r:embed="rId1"/>
          <a:stretch/>
        </p:blipFill>
        <p:spPr>
          <a:xfrm>
            <a:off x="679320" y="260280"/>
            <a:ext cx="1816200" cy="12970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988920" y="1528920"/>
            <a:ext cx="138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1 </a:t>
            </a:r>
            <a:r>
              <a:rPr b="1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说一说</a:t>
            </a:r>
            <a:r>
              <a:rPr b="1" lang="en-US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4113000" y="1628640"/>
            <a:ext cx="351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耳朵进水怎么办？         擤鼻涕应该怎么进行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耳朵进虫或异物怎么办？     发现耳痛怎么办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1060920" y="2781360"/>
            <a:ext cx="142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2 </a:t>
            </a:r>
            <a:r>
              <a:rPr b="1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判断对错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5426280" y="2708280"/>
            <a:ext cx="915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耳朵只有听声音的功能。（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冬天到户外要带耳罩。（  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耳朵里进异物用牙签弄出来。（ 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小明总爱用水枪射别人的耳朵。（  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小丁每次放音乐，音量都开的很大。（  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1219680" y="5157720"/>
            <a:ext cx="14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3 </a:t>
            </a:r>
            <a:r>
              <a:rPr b="1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做一做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3402000" y="5084640"/>
            <a:ext cx="510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每年的</a:t>
            </a:r>
            <a:r>
              <a:rPr b="0" lang="en-US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月</a:t>
            </a:r>
            <a:r>
              <a:rPr b="0" lang="en-US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日是“全国爱耳日”</a:t>
            </a:r>
            <a:r>
              <a:rPr b="0" lang="en-US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,</a:t>
            </a:r>
            <a:r>
              <a:rPr b="0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请同学们合办一期板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u=3540754624,3012845930&amp;fm=23&amp;gp=0"/>
          <p:cNvPicPr/>
          <p:nvPr/>
        </p:nvPicPr>
        <p:blipFill>
          <a:blip r:embed="rId1"/>
          <a:stretch/>
        </p:blipFill>
        <p:spPr>
          <a:xfrm>
            <a:off x="861840" y="260280"/>
            <a:ext cx="1422720" cy="13669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1900080" y="692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微软雅黑"/>
              </a:rPr>
              <a:t>成长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952560" y="1773360"/>
          <a:ext cx="9615600" cy="2519280"/>
        </p:xfrm>
        <a:graphic>
          <a:graphicData uri="http://schemas.openxmlformats.org/drawingml/2006/table">
            <a:tbl>
              <a:tblPr/>
              <a:tblGrid>
                <a:gridCol w="5261040"/>
                <a:gridCol w="2176200"/>
                <a:gridCol w="2178360"/>
              </a:tblGrid>
              <a:tr h="459720">
                <a:tc>
                  <a:txBody>
                    <a:bodyPr lIns="115200" rIns="1152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我们应该这样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0" marR="115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0" rIns="1152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做到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0" marR="11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0" rIns="1152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没做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0" marR="115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880">
                <a:tc>
                  <a:txBody>
                    <a:bodyPr lIns="115200" rIns="1152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不用尖锐的器物掏耳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0" marR="115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0" rIns="1152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0" marR="11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0" rIns="1152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0" marR="115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115200" rIns="1152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有噪声时赶紧捂住耳朵张开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0" marR="115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0" rIns="1152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0" marR="11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0" rIns="1152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0" marR="115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115200" rIns="1152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耳痛耳鸣及时去看医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0" marR="115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0" rIns="1152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0" marR="11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0" rIns="1152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0" marR="115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952560" y="4292640"/>
          <a:ext cx="9615600" cy="936720"/>
        </p:xfrm>
        <a:graphic>
          <a:graphicData uri="http://schemas.openxmlformats.org/drawingml/2006/table">
            <a:tbl>
              <a:tblPr/>
              <a:tblGrid>
                <a:gridCol w="5261040"/>
                <a:gridCol w="2176200"/>
                <a:gridCol w="2178360"/>
              </a:tblGrid>
              <a:tr h="936720">
                <a:tc>
                  <a:txBody>
                    <a:bodyPr lIns="115200" rIns="1152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两个鼻孔交替擤鼻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0" marR="115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0" rIns="1152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0" marR="11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0" rIns="1152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0" marR="115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Text Box 113"/>
          <p:cNvSpPr/>
          <p:nvPr/>
        </p:nvSpPr>
        <p:spPr>
          <a:xfrm>
            <a:off x="1114920" y="5738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做到了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14" descr="u=1685469051,376471613&amp;fm=21&amp;gp=0"/>
          <p:cNvPicPr/>
          <p:nvPr/>
        </p:nvPicPr>
        <p:blipFill>
          <a:blip r:embed="rId2"/>
          <a:stretch/>
        </p:blipFill>
        <p:spPr>
          <a:xfrm>
            <a:off x="2403360" y="5661000"/>
            <a:ext cx="782640" cy="504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15"/>
          <p:cNvSpPr/>
          <p:nvPr/>
        </p:nvSpPr>
        <p:spPr>
          <a:xfrm>
            <a:off x="4951800" y="5805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没做到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16" descr="u=1081125207,1044466652&amp;fm=23&amp;gp=0"/>
          <p:cNvPicPr/>
          <p:nvPr/>
        </p:nvPicPr>
        <p:blipFill>
          <a:blip r:embed="rId3"/>
          <a:stretch/>
        </p:blipFill>
        <p:spPr>
          <a:xfrm>
            <a:off x="6213600" y="5734080"/>
            <a:ext cx="9079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748960" y="38088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微软雅黑"/>
              </a:rPr>
              <a:t>导航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u=3540754624,3012845930&amp;fm=23&amp;gp=0"/>
          <p:cNvPicPr/>
          <p:nvPr/>
        </p:nvPicPr>
        <p:blipFill>
          <a:blip r:embed="rId1"/>
          <a:stretch/>
        </p:blipFill>
        <p:spPr>
          <a:xfrm>
            <a:off x="1406520" y="189000"/>
            <a:ext cx="1100160" cy="1224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2365920" y="1601640"/>
            <a:ext cx="359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微软雅黑"/>
              </a:rPr>
              <a:t>你知道耳朵有哪些功能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微软雅黑"/>
              </a:rPr>
              <a:t>我们是怎样听到声音的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微软雅黑"/>
              </a:rPr>
              <a:t>生活中我们该怎样保护自己的耳朵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t019071323881198784"/>
          <p:cNvPicPr/>
          <p:nvPr/>
        </p:nvPicPr>
        <p:blipFill>
          <a:blip r:embed="rId2"/>
          <a:stretch/>
        </p:blipFill>
        <p:spPr>
          <a:xfrm>
            <a:off x="1133640" y="3284640"/>
            <a:ext cx="6260760" cy="32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耳和听觉"/>
          <p:cNvPicPr/>
          <p:nvPr/>
        </p:nvPicPr>
        <p:blipFill>
          <a:blip r:embed="rId1"/>
          <a:stretch/>
        </p:blipFill>
        <p:spPr>
          <a:xfrm>
            <a:off x="0" y="0"/>
            <a:ext cx="11520360" cy="68594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10296360" y="-100080"/>
            <a:ext cx="1224000" cy="28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观察与思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0" y="3068640"/>
            <a:ext cx="1152216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假如人失去听觉，这四个场面各会出现什么情况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1495440" y="1130400"/>
            <a:ext cx="952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耳朵不仅能听到各种声音，而且还能辨别出方向和保持身体平衡。声音通过耳廓，外耳道传入中耳，再  传到内耳，由听神经传入大脑，产生听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t018f22aace052ce9ed"/>
          <p:cNvPicPr/>
          <p:nvPr/>
        </p:nvPicPr>
        <p:blipFill>
          <a:blip r:embed="rId1"/>
          <a:stretch/>
        </p:blipFill>
        <p:spPr>
          <a:xfrm>
            <a:off x="316080" y="3809880"/>
            <a:ext cx="51195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2674800" y="52056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微软雅黑"/>
              </a:rPr>
              <a:t>让我们看看耳朵的内部结构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t018f22aace052ce9ed"/>
          <p:cNvPicPr/>
          <p:nvPr/>
        </p:nvPicPr>
        <p:blipFill>
          <a:blip r:embed="rId1"/>
          <a:stretch/>
        </p:blipFill>
        <p:spPr>
          <a:xfrm>
            <a:off x="7618320" y="189000"/>
            <a:ext cx="3902040" cy="2322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t010d025f1a220da010"/>
          <p:cNvPicPr/>
          <p:nvPr/>
        </p:nvPicPr>
        <p:blipFill>
          <a:blip r:embed="rId2"/>
          <a:stretch/>
        </p:blipFill>
        <p:spPr>
          <a:xfrm>
            <a:off x="1314360" y="2924280"/>
            <a:ext cx="8345520" cy="2862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t01860d0f392989244d"/>
          <p:cNvPicPr/>
          <p:nvPr/>
        </p:nvPicPr>
        <p:blipFill>
          <a:blip r:embed="rId3"/>
          <a:stretch/>
        </p:blipFill>
        <p:spPr>
          <a:xfrm>
            <a:off x="1133640" y="1700280"/>
            <a:ext cx="1180800" cy="71100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8"/>
          <p:cNvSpPr/>
          <p:nvPr/>
        </p:nvSpPr>
        <p:spPr>
          <a:xfrm rot="1402200">
            <a:off x="2665080" y="2238480"/>
            <a:ext cx="1905120" cy="519120"/>
          </a:xfrm>
          <a:prstGeom prst="leftArrow">
            <a:avLst>
              <a:gd name="adj1" fmla="val 50000"/>
              <a:gd name="adj2" fmla="val 7282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t0104cb96c5b37a60e2"/>
          <p:cNvPicPr/>
          <p:nvPr/>
        </p:nvPicPr>
        <p:blipFill>
          <a:blip r:embed="rId4"/>
          <a:stretch/>
        </p:blipFill>
        <p:spPr>
          <a:xfrm>
            <a:off x="4035600" y="5805360"/>
            <a:ext cx="1271520" cy="8733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11"/>
          <p:cNvSpPr/>
          <p:nvPr/>
        </p:nvSpPr>
        <p:spPr>
          <a:xfrm flipH="1" rot="5363400">
            <a:off x="5793840" y="5436360"/>
            <a:ext cx="652680" cy="10875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t010fec38a2ac767c94"/>
          <p:cNvPicPr/>
          <p:nvPr/>
        </p:nvPicPr>
        <p:blipFill>
          <a:blip r:embed="rId5"/>
          <a:stretch/>
        </p:blipFill>
        <p:spPr>
          <a:xfrm>
            <a:off x="8572680" y="1844640"/>
            <a:ext cx="2668320" cy="201600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14"/>
          <p:cNvSpPr/>
          <p:nvPr/>
        </p:nvSpPr>
        <p:spPr>
          <a:xfrm rot="10800000">
            <a:off x="8844120" y="4221000"/>
            <a:ext cx="1180800" cy="9367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6667560" y="5300640"/>
            <a:ext cx="125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咽鼓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3854520" y="1268280"/>
            <a:ext cx="44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咽鼓管有保持鼓膜两侧压力平衡的作用，如果鼻咽部感染波及中耳，可导致中耳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280" y="-360"/>
            <a:ext cx="103680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耳的结构和功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5033880" y="1341360"/>
            <a:ext cx="39927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3402000" y="5084640"/>
            <a:ext cx="48085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3402000" y="4653000"/>
            <a:ext cx="42642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6"/>
          <p:cNvSpPr/>
          <p:nvPr/>
        </p:nvSpPr>
        <p:spPr>
          <a:xfrm>
            <a:off x="3672000" y="4221000"/>
            <a:ext cx="308592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1133640" y="5157720"/>
            <a:ext cx="634680" cy="1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图Ⅳ-51 耳的基本结构和功能"/>
          <p:cNvPicPr/>
          <p:nvPr/>
        </p:nvPicPr>
        <p:blipFill>
          <a:blip r:embed="rId1"/>
          <a:stretch/>
        </p:blipFill>
        <p:spPr>
          <a:xfrm>
            <a:off x="0" y="1089000"/>
            <a:ext cx="11520360" cy="4356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9"/>
          <p:cNvSpPr/>
          <p:nvPr/>
        </p:nvSpPr>
        <p:spPr>
          <a:xfrm>
            <a:off x="0" y="1989000"/>
            <a:ext cx="1677960" cy="23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0" y="3141720"/>
            <a:ext cx="77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外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1"/>
          <p:cNvSpPr/>
          <p:nvPr/>
        </p:nvSpPr>
        <p:spPr>
          <a:xfrm>
            <a:off x="679320" y="2997360"/>
            <a:ext cx="90720" cy="1511280"/>
          </a:xfrm>
          <a:custGeom>
            <a:avLst/>
            <a:gdLst>
              <a:gd name="textAreaLeft" fmla="*/ 26640 w 90720"/>
              <a:gd name="textAreaRight" fmla="*/ 91080 w 90720"/>
              <a:gd name="textAreaTop" fmla="*/ 79200 h 1511280"/>
              <a:gd name="textAreaBottom" fmla="*/ 143208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134"/>
                  <a:pt x="0" y="2268"/>
                </a:cubicBezTo>
                <a:lnTo>
                  <a:pt x="0" y="19332"/>
                </a:lnTo>
                <a:cubicBezTo>
                  <a:pt x="0" y="20466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816120" y="2349360"/>
            <a:ext cx="76968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耳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770040" y="3716280"/>
            <a:ext cx="815760" cy="1068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外耳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4"/>
          <p:cNvSpPr/>
          <p:nvPr/>
        </p:nvSpPr>
        <p:spPr>
          <a:xfrm>
            <a:off x="770040" y="1989000"/>
            <a:ext cx="271440" cy="432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92160" y="907920"/>
            <a:ext cx="1585800" cy="5814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收集声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590400" y="5802480"/>
            <a:ext cx="2632320" cy="5814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传送声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 flipH="1" flipV="1">
            <a:off x="1314360" y="5157360"/>
            <a:ext cx="363600" cy="6476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8"/>
          <p:cNvSpPr/>
          <p:nvPr/>
        </p:nvSpPr>
        <p:spPr>
          <a:xfrm>
            <a:off x="3854520" y="3645000"/>
            <a:ext cx="3811680" cy="180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9"/>
          <p:cNvSpPr/>
          <p:nvPr/>
        </p:nvSpPr>
        <p:spPr>
          <a:xfrm>
            <a:off x="5670720" y="5516640"/>
            <a:ext cx="154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0"/>
          <p:cNvSpPr/>
          <p:nvPr/>
        </p:nvSpPr>
        <p:spPr>
          <a:xfrm>
            <a:off x="4579920" y="3730680"/>
            <a:ext cx="72720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鼓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1"/>
          <p:cNvSpPr/>
          <p:nvPr/>
        </p:nvSpPr>
        <p:spPr>
          <a:xfrm>
            <a:off x="5942160" y="3530520"/>
            <a:ext cx="725400" cy="1068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听小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2"/>
          <p:cNvSpPr/>
          <p:nvPr/>
        </p:nvSpPr>
        <p:spPr>
          <a:xfrm>
            <a:off x="6757920" y="3789360"/>
            <a:ext cx="72720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鼓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3"/>
          <p:cNvSpPr/>
          <p:nvPr/>
        </p:nvSpPr>
        <p:spPr>
          <a:xfrm>
            <a:off x="5124600" y="4797360"/>
            <a:ext cx="127152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4"/>
          <p:cNvSpPr/>
          <p:nvPr/>
        </p:nvSpPr>
        <p:spPr>
          <a:xfrm>
            <a:off x="6396120" y="5084640"/>
            <a:ext cx="0" cy="50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5"/>
          <p:cNvSpPr/>
          <p:nvPr/>
        </p:nvSpPr>
        <p:spPr>
          <a:xfrm flipH="1">
            <a:off x="6395760" y="4869000"/>
            <a:ext cx="72396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6"/>
          <p:cNvSpPr/>
          <p:nvPr/>
        </p:nvSpPr>
        <p:spPr>
          <a:xfrm>
            <a:off x="9209160" y="1125360"/>
            <a:ext cx="2311200" cy="223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7"/>
          <p:cNvSpPr/>
          <p:nvPr/>
        </p:nvSpPr>
        <p:spPr>
          <a:xfrm>
            <a:off x="8118360" y="907920"/>
            <a:ext cx="127008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8"/>
          <p:cNvSpPr/>
          <p:nvPr/>
        </p:nvSpPr>
        <p:spPr>
          <a:xfrm>
            <a:off x="10480680" y="1569960"/>
            <a:ext cx="72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9"/>
          <p:cNvSpPr/>
          <p:nvPr/>
        </p:nvSpPr>
        <p:spPr>
          <a:xfrm>
            <a:off x="9067680" y="2911320"/>
            <a:ext cx="131940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耳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0"/>
          <p:cNvSpPr/>
          <p:nvPr/>
        </p:nvSpPr>
        <p:spPr>
          <a:xfrm>
            <a:off x="9026640" y="2335320"/>
            <a:ext cx="131760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前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1"/>
          <p:cNvSpPr/>
          <p:nvPr/>
        </p:nvSpPr>
        <p:spPr>
          <a:xfrm>
            <a:off x="7939080" y="1039680"/>
            <a:ext cx="208764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半规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2"/>
          <p:cNvSpPr/>
          <p:nvPr/>
        </p:nvSpPr>
        <p:spPr>
          <a:xfrm>
            <a:off x="10024920" y="1341360"/>
            <a:ext cx="63360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3"/>
          <p:cNvSpPr/>
          <p:nvPr/>
        </p:nvSpPr>
        <p:spPr>
          <a:xfrm flipH="1">
            <a:off x="10296360" y="2133720"/>
            <a:ext cx="36216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4"/>
          <p:cNvSpPr/>
          <p:nvPr/>
        </p:nvSpPr>
        <p:spPr>
          <a:xfrm flipH="1">
            <a:off x="10387080" y="2133720"/>
            <a:ext cx="27144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5"/>
          <p:cNvSpPr/>
          <p:nvPr/>
        </p:nvSpPr>
        <p:spPr>
          <a:xfrm>
            <a:off x="9026640" y="3933720"/>
            <a:ext cx="1995480" cy="11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6"/>
          <p:cNvSpPr/>
          <p:nvPr/>
        </p:nvSpPr>
        <p:spPr>
          <a:xfrm>
            <a:off x="8934480" y="3933720"/>
            <a:ext cx="181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咽鼓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7"/>
          <p:cNvSpPr/>
          <p:nvPr/>
        </p:nvSpPr>
        <p:spPr>
          <a:xfrm>
            <a:off x="8210520" y="4508640"/>
            <a:ext cx="3084480" cy="792000"/>
          </a:xfrm>
          <a:prstGeom prst="upArrowCallout">
            <a:avLst>
              <a:gd name="adj1" fmla="val 13235"/>
              <a:gd name="adj2" fmla="val 23854"/>
              <a:gd name="adj3" fmla="val 9338"/>
              <a:gd name="adj4" fmla="val 6666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由鼓室通向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鼓膜"/>
          <p:cNvPicPr/>
          <p:nvPr/>
        </p:nvPicPr>
        <p:blipFill>
          <a:blip r:embed="rId1"/>
          <a:stretch/>
        </p:blipFill>
        <p:spPr>
          <a:xfrm>
            <a:off x="0" y="0"/>
            <a:ext cx="1152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u=401073708,4263025509&amp;fm=21&amp;gp=0"/>
          <p:cNvPicPr/>
          <p:nvPr/>
        </p:nvPicPr>
        <p:blipFill>
          <a:blip r:embed="rId1"/>
          <a:stretch/>
        </p:blipFill>
        <p:spPr>
          <a:xfrm>
            <a:off x="9434520" y="0"/>
            <a:ext cx="2085840" cy="29592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2590920" y="35892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微软雅黑"/>
              </a:rPr>
              <a:t>耳朵很重要，我们要好好保护它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1461960" y="139068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微软雅黑"/>
              </a:rPr>
              <a:t>遇到雷声燃放鞭炮赶紧张口，掩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6762240" y="134136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微软雅黑"/>
              </a:rPr>
              <a:t>不用硬物挖耳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930240" y="350028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微软雅黑"/>
              </a:rPr>
              <a:t>耳朵进水单腿跳着控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5232240" y="35002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微软雅黑"/>
              </a:rPr>
              <a:t>两个鼻孔交替擤鼻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4676760" y="501336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微软雅黑"/>
              </a:rPr>
              <a:t>耳鸣，耳痛，进异物要去看医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826200" y="49417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微软雅黑"/>
              </a:rPr>
              <a:t>不要长时间戴耳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3" descr="t014ea2da2612694de4"/>
          <p:cNvPicPr/>
          <p:nvPr/>
        </p:nvPicPr>
        <p:blipFill>
          <a:blip r:embed="rId2"/>
          <a:stretch/>
        </p:blipFill>
        <p:spPr>
          <a:xfrm>
            <a:off x="770040" y="1989000"/>
            <a:ext cx="2449440" cy="1295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5" descr="t0168bc8125ff742851"/>
          <p:cNvPicPr/>
          <p:nvPr/>
        </p:nvPicPr>
        <p:blipFill>
          <a:blip r:embed="rId3"/>
          <a:stretch/>
        </p:blipFill>
        <p:spPr>
          <a:xfrm>
            <a:off x="6757920" y="1989000"/>
            <a:ext cx="2151000" cy="1359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t017f563fda6a6d6a59"/>
          <p:cNvPicPr/>
          <p:nvPr/>
        </p:nvPicPr>
        <p:blipFill>
          <a:blip r:embed="rId4"/>
          <a:stretch/>
        </p:blipFill>
        <p:spPr>
          <a:xfrm>
            <a:off x="498600" y="3809880"/>
            <a:ext cx="2178000" cy="1203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7" descr="t01f9663029dc123cc7"/>
          <p:cNvPicPr/>
          <p:nvPr/>
        </p:nvPicPr>
        <p:blipFill>
          <a:blip r:embed="rId5"/>
          <a:stretch/>
        </p:blipFill>
        <p:spPr>
          <a:xfrm>
            <a:off x="5216400" y="3860640"/>
            <a:ext cx="2032200" cy="1008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8" descr="t010a1a76e98ea33234"/>
          <p:cNvPicPr/>
          <p:nvPr/>
        </p:nvPicPr>
        <p:blipFill>
          <a:blip r:embed="rId6"/>
          <a:stretch/>
        </p:blipFill>
        <p:spPr>
          <a:xfrm>
            <a:off x="861840" y="5445000"/>
            <a:ext cx="1995840" cy="1152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9" descr="t0160b8c97550df5e37"/>
          <p:cNvPicPr/>
          <p:nvPr/>
        </p:nvPicPr>
        <p:blipFill>
          <a:blip r:embed="rId7"/>
          <a:stretch/>
        </p:blipFill>
        <p:spPr>
          <a:xfrm>
            <a:off x="5124600" y="5373720"/>
            <a:ext cx="236052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60"/>
                            </p:stCondLst>
                            <p:childTnLst>
                              <p:par>
                                <p:cTn id="1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600"/>
                            </p:stCondLst>
                            <p:childTnLst>
                              <p:par>
                                <p:cTn id="1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005_www"/>
          <p:cNvPicPr/>
          <p:nvPr/>
        </p:nvPicPr>
        <p:blipFill>
          <a:blip r:embed="rId1"/>
          <a:stretch/>
        </p:blipFill>
        <p:spPr>
          <a:xfrm>
            <a:off x="-5241960" y="-1903320"/>
            <a:ext cx="1224000" cy="628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2_logo"/>
          <p:cNvPicPr/>
          <p:nvPr/>
        </p:nvPicPr>
        <p:blipFill>
          <a:blip r:embed="rId2"/>
          <a:stretch/>
        </p:blipFill>
        <p:spPr>
          <a:xfrm>
            <a:off x="-5030640" y="-1857240"/>
            <a:ext cx="2881080" cy="457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005_nav6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-5170320" y="6975360"/>
            <a:ext cx="2592360" cy="263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005_nav7a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-5170320" y="8166240"/>
            <a:ext cx="2592360" cy="263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005_gaishu"/>
          <p:cNvPicPr/>
          <p:nvPr/>
        </p:nvPicPr>
        <p:blipFill>
          <a:blip r:embed="rId7"/>
          <a:stretch/>
        </p:blipFill>
        <p:spPr>
          <a:xfrm>
            <a:off x="6489720" y="-1857240"/>
            <a:ext cx="2881440" cy="3427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7"/>
          <p:cNvSpPr/>
          <p:nvPr/>
        </p:nvSpPr>
        <p:spPr>
          <a:xfrm>
            <a:off x="360360" y="1471680"/>
            <a:ext cx="106567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隶书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久以来，人们对耳聋的发病情况认识和重视不够。其实，耳聋的发病率很高，耳聋是影响人类生活质量最主要的问题之一。据世界卫生组织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HO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估计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全球听力残疾人数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2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9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，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增加到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。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中增加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陪！在我国，据估计有听力障碍的残疾人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，占残疾人总数的首位，其中聋哑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万，七岁以下聋儿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万。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由于药物、遗传、感染、疾病、环境、噪音污染、意外事故等原因，每年新增聋儿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万余名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据人口调查统计，每年出生的新生儿中，重度听力障碍者约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据估计，不同程度听力障碍者在人群中的比例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以上者高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总之，如何降低聋病在人群中的发病率和及时发现、早期治疗，是全社会的共同责任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8"/>
          <p:cNvSpPr txBox="1"/>
          <p:nvPr/>
        </p:nvSpPr>
        <p:spPr>
          <a:xfrm>
            <a:off x="5951520" y="399960"/>
            <a:ext cx="384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3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与你分享</a:t>
            </a:r>
            <a:endParaRPr b="1" i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8" name="WordArt 9"/>
          <p:cNvSpPr txBox="1"/>
          <p:nvPr/>
        </p:nvSpPr>
        <p:spPr>
          <a:xfrm>
            <a:off x="431640" y="571680"/>
            <a:ext cx="15368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98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1" strike="noStrike">
                <a:ln w="9360">
                  <a:solidFill>
                    <a:srgbClr val="fff8ed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资料</a:t>
            </a:r>
            <a:endParaRPr b="1" i="1" lang="en-US" sz="4800" spc="1" strike="noStrike">
              <a:ln w="9360">
                <a:solidFill>
                  <a:srgbClr val="fff8ed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3T01:44:50Z</dcterms:created>
  <dc:creator>【课件站www.kjzhan.com】~中小学ppt课件、试卷练习、主题班会ppt免费下载站~【课件站www.kjzhan.com】~中小学ppt课件、试卷练习、主题班会ppt免费下载站~【课件站www.kjzhan.com】~中小学ppt课件、试卷练习、主题班会ppt免费下载站~【课件站www.kjzhan.com】~中小学ppt课件、试卷练习、主题班会ppt免费下载站~【课件站www.kjzhan.com】~中小学ppt课件、试卷练习、主题班会ppt免费下载站~【课件站www.kj; 微软用户</dc:creator>
  <dc:description>【课件站www.kjzhan.com】~中小学ppt课件、试卷练习、主题班会ppt免费下载站~【课件站www.kjzhan.com】~中小学ppt课件、试卷练习、主题班会ppt免费下载站~【课件站www.kjzhan.com】~中小学ppt课件、试卷练习、主题班会ppt免费下载站~【课件站www.kjzhan.com】~中小学ppt课件、试卷练习、主题班会ppt免费下载站~【课件站www.kjzhan.com】~中小学ppt课件、试卷练习、主题班会ppt免费下载站~【课件站www.kj</dc:description>
  <cp:keywords>【课件站www.kjzhan.com】~中小学ppt课件、试卷练习、主题班会ppt免费下载站~【课件站www.kjzhan.com】~中小学ppt课件、试卷练习、主题班会ppt免费下载站~【课件站www.kjzhan.com】~中小学ppt课件、试卷练习、主题班会ppt免费下载站~【课件站www.kjzhan.com】~中小学ppt课件、试卷练习、主题班会ppt免费下载站~【课件站www.kjzhan.com】~中小学ppt课件、试卷练习、主题班会ppt免费下载站~【课件站www.kj</cp:keywords>
  <dc:language>en-US</dc:language>
  <cp:lastModifiedBy>jl</cp:lastModifiedBy>
  <dcterms:modified xsi:type="dcterms:W3CDTF">2017-02-16T18:08:52Z</dcterms:modified>
  <cp:revision>9</cp:revision>
  <dc:subject>【课件站www.kjzhan.com】~中小学ppt课件、试卷练习、主题班会ppt免费下载站~【课件站www.kjzhan.com】~中小学ppt课件、试卷练习、主题班会ppt免费下载站~【课件站www.kjzhan.com】~中小学ppt课件、试卷练习、主题班会ppt免费下载站~【课件站www.kjzhan.com】~中小学ppt课件、试卷练习、主题班会ppt免费下载站~【课件站www.kjzhan.com】~中小学ppt课件、试卷练习、主题班会ppt免费下载站~【课件站www.kj</dc:subject>
  <dc:title>【课件站www.kjzhan.com】~中小学ppt课件、试卷练习、主题班会ppt免费下载站~【课件站www.kjzhan.com】~中小学ppt课件、试卷练习、主题班会ppt免费下载站~【课件站www.kjzhan.com】~中小学ppt课件、试卷练习、主题班会ppt免费下载站~【课件站www.kjzhan.com】~中小学ppt课件、试卷练习、主题班会ppt免费下载站~【课件站www.kjzhan.com】~中小学ppt课件、试卷练习、主题班会ppt免费下载站~【课件站www.kj</dc:title>
</cp:coreProperties>
</file>